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0D5-DEB4-4C4B-85DB-C5F15642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D4F-C397-4188-BCBE-8DD72D75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71B-68FC-4944-911F-0E5EF114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00C-A180-4FB6-9B06-6B64F8FB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BA0-0AAC-4783-B071-944D929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5B0-EA54-4E45-9A1A-292E424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86A-766D-4D7C-BC0D-F8DDDFD6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955-B5C9-4550-897A-B04BCCBB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256-96E6-4FED-B2A1-B59CEE5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9EA-98A6-4DF8-B185-A5BFC49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2F9-2C55-4D35-A835-C36AFD4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71B-6F01-4B3D-8ACA-CCE4F77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694D-2432-47C1-AF4F-F552DD33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64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tidad Reaseguradora:  </a:t>
            </a:r>
            <a:r>
              <a:rPr b="1" lang="es-ES" sz="1600" spc="-1" strike="noStrike">
                <a:solidFill>
                  <a:srgbClr val="339933"/>
                </a:solidFill>
                <a:latin typeface="Times New Roman"/>
              </a:rPr>
              <a:t>GENERAL &amp; COLOGNE RE (SUR) COMPAÑÍA DE REA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omicilio: Arenales 707 Piso 3º - Cap. Fed. - Tel 4313-3553     Fax 4313-48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residente: Alberto Saen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83628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/12/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052640"/>
          <a:ext cx="8640360" cy="272880"/>
        </p:xfrm>
        <a:graphic>
          <a:graphicData uri="http://schemas.openxmlformats.org/drawingml/2006/table">
            <a:tbl>
              <a:tblPr/>
              <a:tblGrid>
                <a:gridCol w="4370760"/>
                <a:gridCol w="426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371600"/>
            <a:ext cx="2112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oni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mue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enes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ros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TOTAL A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37160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39.602.9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9920"/>
            <a:ext cx="27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u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omisos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v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TOTAL PAS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TRIMONIO N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SIVO + PATRIMO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136836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09.973.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29.670.4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39.602.9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92240" y="2708280"/>
          <a:ext cx="8627400" cy="288720"/>
        </p:xfrm>
        <a:graphic>
          <a:graphicData uri="http://schemas.openxmlformats.org/drawingml/2006/table">
            <a:tbl>
              <a:tblPr/>
              <a:tblGrid>
                <a:gridCol w="4364280"/>
                <a:gridCol w="426312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FINANC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79280" y="3000240"/>
            <a:ext cx="33289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PRIMAS Y RECARG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s de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IB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SINIESTROS NET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agados N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GASTOS TO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Produ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Explo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 DEL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*)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971800"/>
            <a:ext cx="100800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24.298.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5.611.8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93.350.2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31.056.5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5.719.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2.291.5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022560"/>
            <a:ext cx="107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7.125.3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2.959.3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132.5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57.705.6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36.410.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.766.0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5.565.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5.490.5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011400"/>
            <a:ext cx="360036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Re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Ten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E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astos de Explotación y Otros C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 OPERACIONES ORDIN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de Operaciones Extraordin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mpuesto a las Gan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3022560"/>
            <a:ext cx="9367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6.181.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1.830.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1.291.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3.121.4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50040" y="3006720"/>
            <a:ext cx="153504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427.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02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3.721.5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8.3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240.8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97720"/>
            <a:ext cx="74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*)  Ingresos, Egresos, Indemnizaciones y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6524640"/>
            <a:ext cx="8351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295280"/>
            <a:ext cx="1535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291.5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5.796.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9.276.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7.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8880" y="1379520"/>
            <a:ext cx="15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96.973.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.959.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860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8:09:23Z</dcterms:created>
  <dc:creator>arodriguez</dc:creator>
  <dc:description/>
  <dc:language>en-US</dc:language>
  <cp:lastModifiedBy>arodriguez</cp:lastModifiedBy>
  <dcterms:modified xsi:type="dcterms:W3CDTF">2006-07-26T19:25:01Z</dcterms:modified>
  <cp:revision>14</cp:revision>
  <dc:subject/>
  <dc:title>Diapositiva 1</dc:title>
</cp:coreProperties>
</file>